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28B-FF84-45E5-A725-1E9EB897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730-A70A-4BEA-BFC4-606897C3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8AE-63E4-49BF-936D-2F93ACFD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362-585E-4D74-9E75-4EDE08A7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3A3-4763-4254-9D59-897094C7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DE4-E5B2-47CE-B325-79693F17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DB8-10EF-4B10-8DAD-A3612844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3E6-9EBE-4D3F-AE67-8B679235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6E3-E838-4286-9C73-2AF93A32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63E-453D-420A-B5C8-A6E86E4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7CD-E9F9-4FA9-AD0D-12073886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E71-3C7B-40D1-888B-A925A9A4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FEAF-2ED4-47A4-B8A7-A45174B4FB8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4:16:25Z</dcterms:created>
  <dc:creator>Grupo Editorial</dc:creator>
  <dc:description/>
  <dc:language>en-US</dc:language>
  <cp:lastModifiedBy>TORRES</cp:lastModifiedBy>
  <dcterms:modified xsi:type="dcterms:W3CDTF">2010-12-18T22:18:43Z</dcterms:modified>
  <cp:revision>2</cp:revision>
  <dc:subject/>
  <dc:title>Sin título de diapositiva</dc:title>
</cp:coreProperties>
</file>